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1022"/>
        <c:axId val="30380003"/>
      </c:barChart>
      <c:catAx>
        <c:axId val="2031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80003"/>
        <c:crosses val="autoZero"/>
        <c:auto val="1"/>
        <c:lblAlgn val="ctr"/>
        <c:lblOffset val="100"/>
        <c:noMultiLvlLbl val="0"/>
      </c:catAx>
      <c:valAx>
        <c:axId val="30380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48B-A4B7-434A-8C60-6F4DBD41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92E-BC18-40B9-8A02-F35B5A59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F1C-EF68-4283-A2A5-61926D93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D41-960F-4927-8A80-4F2904F8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E77-E841-43A4-8BF3-D9F99C52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6FE-E7A0-4251-AEC3-6EC35D1A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815-1F7D-43E4-AC19-7DDDDD2E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A06-485C-43B4-AA0A-68A887B1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CDA-CFEC-4DA1-9A18-78559E17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DFE-9286-4093-893C-0E9A66C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267-56EC-4764-9ABA-F445886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10E-D6C5-45D3-8F3C-B6F0EE27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1098D-AB90-4280-A114-3156534430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