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5853"/>
        <c:axId val="52519262"/>
      </c:barChart>
      <c:catAx>
        <c:axId val="6035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19262"/>
        <c:crosses val="autoZero"/>
        <c:auto val="1"/>
        <c:lblAlgn val="ctr"/>
        <c:lblOffset val="100"/>
        <c:noMultiLvlLbl val="0"/>
      </c:catAx>
      <c:valAx>
        <c:axId val="52519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970-1072-4E72-97CE-2055267E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878-2A13-48F0-83CD-1FBA2B5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4B-3A2B-4DBE-8896-290C5B88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9A9-6D0F-4EF0-A238-62B481CD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FCF-34FC-4828-9BCF-50C64F5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243-B245-44F5-8BCB-11553CF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5B3-3070-4406-A173-B5276E6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A4F-A5B2-4619-9598-E38E71B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76D-F64C-4AFB-83C4-91C2648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33C-CB40-4755-9CA9-3EE0713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4B0-CDC1-4187-B270-AE59363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FEC-E6A9-4E43-8CBA-C6CFB67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F7CC4-4232-4929-B8D5-5BFA5CFC51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